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A88D-DF18-4D75-8E99-18386E5884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7B5-E609-4694-A708-898658E2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CA7-24F3-4468-AA5B-B08737F1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207-535E-48F8-A4CD-58EDA163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A8B-6B1A-494C-8FEC-8DDD8D8C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94B-9591-481B-9BD1-CE08856E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3BB-F4CE-4293-B3BC-6EFD1781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A53-82D7-4335-9F76-8DD034B5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D4A-7E4C-4B99-BA48-2D20A0F4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CFE-7BE9-4CE0-8D42-4A4B9C31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8B3-F569-4879-8369-160304F1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321-523F-4211-8974-102E0FDD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57E-9273-4606-974B-B252D505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0A7F-064F-410D-BC6B-23ED0343E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nherit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x Link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ir role in determining sex, the sex chromosomes have genes for many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located on a sex chromosome are called sex linked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 the term usually refers to X-linked characters: genes located only on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 pass X-linked alleles to their daughters, but not 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s can pass sex-linked alleles to both sons and dau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essive all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ex linked trait is due to a recessive all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male will express the phenotype only if she is homozygou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le receives the recessive allele from his mother he will express th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more males have disorders that are inherited as sex linked recessives than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chromosome has a locus for colour vision with two all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d-green 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hromosome does not have a colour vision loc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ale receives th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le he will have impaired colour vision, whereas a female with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rrier Female x Normal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35800" y="5486400"/>
            <a:ext cx="767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emale : Carrier Female : Normal Male : Colour blind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:            1             :           1         :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181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858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7467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76720" y="3352680"/>
          <a:ext cx="5181480" cy="21081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owing genetic pedigr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4008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fe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73240" y="198108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fe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173240" y="251460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73240" y="3048120"/>
            <a:ext cx="4008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181480" y="15238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181480" y="20574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181480" y="2590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81480" y="3048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5053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048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8098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715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4812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3809880" y="5638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53341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94360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3886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4290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5181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2362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9625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4952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32004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36576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4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480060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800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35960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5104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22244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313092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8930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8376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80608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0628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390096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473112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534888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4"/>
          <p:cNvSpPr/>
          <p:nvPr/>
        </p:nvSpPr>
        <p:spPr>
          <a:xfrm>
            <a:off x="60346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114444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1144080" y="472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1143720" y="5562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5: Sex-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6: Exten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925720" y="3075120"/>
            <a:ext cx="438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9:42:59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2:25:20Z</dcterms:modified>
  <cp:revision>39</cp:revision>
  <dc:subject/>
  <dc:title>Inheritance</dc:title>
</cp:coreProperties>
</file>